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35.jpeg" ContentType="image/jpeg"/>
  <Override PartName="/ppt/media/image1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8.jpeg" ContentType="image/jpeg"/>
  <Override PartName="/ppt/media/image39.jpeg" ContentType="image/jpeg"/>
  <Override PartName="/ppt/media/02-No%20more%20lonely%20nights-NOVO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4119-0CEE-47C9-96E9-D3E5868773B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4F5-47B6-41B5-BCAC-8FF37B26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98C-6AF7-4453-A93B-6467CD85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764-C2F7-4C47-88CC-03B3CF1E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D4C6-D1CA-480C-ADEF-3DAAF267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E5A-3AFE-40A7-8BC6-84AFC9B3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B26C-EE60-47A9-8880-B5E2D38C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4B45-825B-425A-8419-B1DAF579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352-F8D4-4C4F-AF3D-17B5AFBC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2FF5-BA43-493D-9AED-839F7EC8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4A9E-8BE7-4434-9FF8-C92C8D00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11A3-6C2F-44AD-95C2-4FD840DB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DF0-98A5-4CEB-8C8B-3F5F14D0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4516-CA77-4D26-B4E6-7AEE28BF6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02-No%20more%20lonely%20nights-NOVO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Image:Europe location ENG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826920" y="2852640"/>
            <a:ext cx="148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Engla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fade/>
    <p:sndAc>
      <p:stSnd>
        <p:snd r:embed="rId4" name="02-No%20more%20lonely%20nights-NOV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29240" cy="6953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14760" y="-95400"/>
            <a:ext cx="4629240" cy="6953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00720" y="0"/>
            <a:ext cx="1692000" cy="39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LONDON EY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553080"/>
            <a:ext cx="914400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1692360" cy="39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LONDON EY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84360" y="-95400"/>
            <a:ext cx="4629240" cy="6953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08000" y="0"/>
            <a:ext cx="20178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LONDON EY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53080"/>
            <a:ext cx="914400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666666"/>
              </a:solidFill>
              <a:latin typeface="Arial"/>
              <a:ea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27760" y="5979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53960"/>
            <a:ext cx="9144000" cy="6087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20640"/>
            <a:ext cx="169236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BIG B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95008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89960" cy="5718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5280" y="765000"/>
            <a:ext cx="169236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02136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549360"/>
            <a:ext cx="20178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TOWER OF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602136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640720" cy="5753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692280"/>
            <a:ext cx="20178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ROYAL COURTS OF JUST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805360"/>
            <a:ext cx="914400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048520" cy="5357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0920" y="836640"/>
            <a:ext cx="201744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NOTTING HI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73408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048520" cy="5357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5280" y="907920"/>
            <a:ext cx="20178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HARR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805360"/>
            <a:ext cx="914400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136000" cy="5416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765000"/>
            <a:ext cx="20178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LONDON EY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66100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492360" y="6334200"/>
            <a:ext cx="194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plus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666666"/>
              </a:solidFill>
              <a:latin typeface="Arial"/>
              <a:ea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13:55:02Z</dcterms:created>
  <dc:creator/>
  <dc:description/>
  <dc:language>en-US</dc:language>
  <cp:lastModifiedBy>Lali</cp:lastModifiedBy>
  <dcterms:modified xsi:type="dcterms:W3CDTF">2007-07-29T05:25:56Z</dcterms:modified>
  <cp:revision>32</cp:revision>
  <dc:subject/>
  <dc:title>www.laboutiquedelpowerpoint.com</dc:title>
</cp:coreProperties>
</file>