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2.xml.rels" ContentType="application/vnd.openxmlformats-package.relationships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3.jpeg" ContentType="image/jpeg"/>
  <Override PartName="/ppt/media/image1.png" ContentType="image/png"/>
  <Override PartName="/ppt/media/image28.jpeg" ContentType="image/jpeg"/>
  <Override PartName="/ppt/media/image34.jpeg" ContentType="image/jpeg"/>
  <Override PartName="/ppt/media/image12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35.jpeg" ContentType="image/jpeg"/>
  <Override PartName="/ppt/media/image10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7.jpeg" ContentType="image/jpeg"/>
  <Override PartName="/ppt/media/image38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8.jpeg" ContentType="image/jpeg"/>
  <Override PartName="/ppt/media/image39.jpeg" ContentType="image/jpeg"/>
  <Override PartName="/ppt/media/02-No%20more%20lonely%20nights-NOVO.wav" ContentType="audio/x-wav"/>
  <Override PartName="/ppt/media/image36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A9481-4C49-4F5B-9A00-56729B7B077C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9DC36-401D-40C6-BB73-6CF360BBA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0E54F-922A-46F8-8691-73664A95F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0D046-FA53-4405-BD7D-BDBE147C3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31E4B-041D-489C-97F8-08A408738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2786A-47DB-4895-93E5-A745864AB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2BD1E-3B52-499C-AAF0-A925970EF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714CB-7116-45E5-8478-DA97E07F4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BCAA4-6138-4B79-B032-59C1F3482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06ADB-C9C5-4D34-9F07-6D91F801C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AACDF-2ECC-4085-A654-00A822836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17462-5B5C-4F48-89E5-E0E69BBF9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4586D-C6EC-4321-A78C-012C1CEFC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5E90E-8332-4B9F-A0E9-800DE72D20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audio" Target="../media/02-No%20more%20lonely%20nights-NOVO.wav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Image:Europe location ENG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 txBox="1"/>
          <p:nvPr/>
        </p:nvSpPr>
        <p:spPr>
          <a:xfrm>
            <a:off x="826920" y="2852640"/>
            <a:ext cx="14860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England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med">
    <p:fade/>
    <p:sndAc>
      <p:stSnd>
        <p:snd r:embed="rId4" name="02-No%20more%20lonely%20nights-NOVO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12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lus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3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629240" cy="69534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4514760" y="-95400"/>
            <a:ext cx="4629240" cy="6953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4500720" y="0"/>
            <a:ext cx="1692000" cy="398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Arial"/>
              </a:rPr>
              <a:t>LONDON EY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6553080"/>
            <a:ext cx="9144000" cy="60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0"/>
            <a:ext cx="1692360" cy="398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Arial"/>
              </a:rPr>
              <a:t>LONDON EY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lus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2484360" y="-95400"/>
            <a:ext cx="4629240" cy="69534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1908000" y="0"/>
            <a:ext cx="201780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Arial"/>
              </a:rPr>
              <a:t>LONDON EY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6553080"/>
            <a:ext cx="9144000" cy="60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lus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3276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lus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3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62120" y="3200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lus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3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48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lus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276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lus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" dur="3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809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lus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" dur="3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342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lus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" dur="3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504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lus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" dur="3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>
    <p:plus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0948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" sz="4400" spc="-1" strike="noStrike">
              <a:solidFill>
                <a:srgbClr val="666666"/>
              </a:solidFill>
              <a:latin typeface="Arial"/>
              <a:ea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lus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480" y="335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lus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" dur="3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33520" y="3200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600" spc="-1" strike="noStrike"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27760" y="597996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lus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lus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lus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200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lus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" dur="3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lus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lus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lus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lus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453960"/>
            <a:ext cx="9144000" cy="60879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620640"/>
            <a:ext cx="169236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Arial"/>
              </a:rPr>
              <a:t>BIG B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5950080"/>
            <a:ext cx="9144000" cy="609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lus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lus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lus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250920" y="620640"/>
            <a:ext cx="8589960" cy="571824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395280" y="765000"/>
            <a:ext cx="169236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Arial"/>
              </a:rPr>
              <a:t>TRAFALGAR SQUA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6021360"/>
            <a:ext cx="9144000" cy="609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lus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0" y="549360"/>
            <a:ext cx="201780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Arial"/>
              </a:rPr>
              <a:t>TOWER OF LOND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24000" y="6021360"/>
            <a:ext cx="9144000" cy="609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lus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549360"/>
            <a:ext cx="8640720" cy="575316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0" y="692280"/>
            <a:ext cx="201780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Arial"/>
              </a:rPr>
              <a:t>ROYAL COURTS OF JUSTI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5805360"/>
            <a:ext cx="9144000" cy="60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lus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611280" y="692280"/>
            <a:ext cx="8048520" cy="535752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250920" y="836640"/>
            <a:ext cx="201744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Arial"/>
              </a:rPr>
              <a:t>NOTTING HIL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5734080"/>
            <a:ext cx="9144000" cy="609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lus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611280" y="765000"/>
            <a:ext cx="8048520" cy="535788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395280" y="907920"/>
            <a:ext cx="201780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Arial"/>
              </a:rPr>
              <a:t>HARRO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5805360"/>
            <a:ext cx="9144000" cy="60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lus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468360" y="692280"/>
            <a:ext cx="8136000" cy="541656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0" y="765000"/>
            <a:ext cx="201780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Arial"/>
              </a:rPr>
              <a:t>LONDON EY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5661000"/>
            <a:ext cx="9144000" cy="609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3492360" y="6334200"/>
            <a:ext cx="19432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THE END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med">
    <p:plus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" sz="4400" spc="-1" strike="noStrike">
              <a:solidFill>
                <a:srgbClr val="666666"/>
              </a:solidFill>
              <a:latin typeface="Arial"/>
              <a:ea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lus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lus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35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lus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" dur="3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3504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lus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" dur="3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lus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504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lus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" dur="3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5T13:55:02Z</dcterms:created>
  <dc:creator/>
  <dc:description/>
  <dc:language>en-US</dc:language>
  <cp:lastModifiedBy>Lali</cp:lastModifiedBy>
  <dcterms:modified xsi:type="dcterms:W3CDTF">2007-07-29T05:25:56Z</dcterms:modified>
  <cp:revision>32</cp:revision>
  <dc:subject/>
  <dc:title>www.laboutiquedelpowerpoint.com</dc:title>
</cp:coreProperties>
</file>