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02-No%20more%20lonely%20nights-NOVO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2C4-5E4D-4FAC-BE19-A26C131948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51F-993E-423C-B48D-ACD541DF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A75-58AF-426A-8E84-3846CAA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EDE-8268-4C10-8C53-90EDB31D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693-3C54-4783-B901-A5151E4F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1B8-131D-4BA0-AADC-5CEC6688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327-8EC3-4615-8C0E-2B37C5DC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FE6-31B2-41E5-B7BD-6435C1F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C6E-A76D-4FEC-80E6-6B887CB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658-3AC2-4E3E-973E-2259517B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AE6-A7F3-438B-98FC-0578A02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12C-D4B5-4FDE-A80B-F7C1C1BC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DF5-DD2A-4AA5-BB31-7D9D654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946-E6E3-4580-B892-B05EAC666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02-No%20more%20lonely%20nights-NOVO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Image:Europe location EN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26920" y="285264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l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  <p:sndAc>
      <p:stSnd>
        <p:snd r:embed="rId4" name="02-No%20more%20lonely%20nights-NO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953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147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0"/>
            <a:ext cx="1692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69236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-95400"/>
            <a:ext cx="4629240" cy="695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8000" y="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979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2064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BIG B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50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89960" cy="571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765000"/>
            <a:ext cx="169236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54936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602136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75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9228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ROYAL COURTS OF JUS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48520" cy="5357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836640"/>
            <a:ext cx="201744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TTING H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73408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48520" cy="5357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90792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HARR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05360"/>
            <a:ext cx="91440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416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765000"/>
            <a:ext cx="20178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LONDON EY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66100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92360" y="633420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666666"/>
              </a:solidFill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3:55:02Z</dcterms:created>
  <dc:creator/>
  <dc:description/>
  <dc:language>en-US</dc:language>
  <cp:lastModifiedBy>Lali</cp:lastModifiedBy>
  <dcterms:modified xsi:type="dcterms:W3CDTF">2007-07-29T05:25:56Z</dcterms:modified>
  <cp:revision>32</cp:revision>
  <dc:subject/>
  <dc:title>www.laboutiquedelpowerpoint.com</dc:title>
</cp:coreProperties>
</file>