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02-No%20more%20lonely%20nights-NOVO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F57A-6641-41A6-A566-B8765EB1E4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349-67A0-4E6D-9F8C-0CBF202B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F91-34CD-4810-890A-1CB34C2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040-6012-4F03-A540-FCD11142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142-DC55-433E-BEEA-E1565C92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825-9E6F-4A08-8E0F-D8CF2325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858-F207-435B-AC49-4A9B9B3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779-6039-42B2-83F0-A43BB20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6BE-1A8C-41D3-BE18-E553EC6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5E-8ACE-44E0-809A-46DD69B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1A3-1928-4175-BD65-7203441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538-6C78-4F48-A201-0E6F3DA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4DB-2B04-4945-8A5D-48BE713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436-F597-461F-941B-91426B4C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02-No%20more%20lonely%20nights-NOVO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Image:Europe location EN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285264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l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  <p:sndAc>
      <p:stSnd>
        <p:snd r:embed="rId4" name="02-No%20more%20lonely%20nights-NO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95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147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0"/>
            <a:ext cx="1692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69236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8000" y="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97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2064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BIG B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50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89960" cy="571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76500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4936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75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9228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OYAL COURTS OF JUS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48520" cy="5357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836640"/>
            <a:ext cx="201744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TTING H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734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48520" cy="5357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90792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ARR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41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76500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66100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92360" y="633420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/>
  <dc:description/>
  <dc:language>en-US</dc:language>
  <cp:lastModifiedBy>Lali</cp:lastModifiedBy>
  <dcterms:modified xsi:type="dcterms:W3CDTF">2007-07-29T05:25:56Z</dcterms:modified>
  <cp:revision>32</cp:revision>
  <dc:subject/>
  <dc:title>www.laboutiquedelpowerpoint.com</dc:title>
</cp:coreProperties>
</file>