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3482-50FB-4FF0-B141-668B4CD96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FA40-D8C8-4FDE-894A-3E9818DC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948F-8B58-411A-A484-4DB82FA0A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652D-82DD-47BF-B775-547A3902E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BD3A-36A2-4AF1-8941-FC3CED25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9499-391A-4DFF-95AC-35BE221B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0918-F6CD-491A-9B13-E2C02DDE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BFD1-2519-4BFC-9652-78F25700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BCED-A20F-43F1-BEB5-08586BEA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27B6-5A0F-40D2-9E2C-A1043BAA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130F-92F2-4EEC-B30F-78BB6F88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AB3C-E302-4D89-9705-5920F117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B95C-E915-421A-B77C-A600B6B46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22320"/>
            <a:ext cx="9906120" cy="690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938160" y="169920"/>
            <a:ext cx="775800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434880"/>
            <a:ext cx="9906120" cy="59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41240" y="-27000"/>
            <a:ext cx="850284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32799" t="30476" r="39944" b="25713"/>
          <a:stretch/>
        </p:blipFill>
        <p:spPr>
          <a:xfrm>
            <a:off x="1440" y="3332160"/>
            <a:ext cx="3170520" cy="3527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rcRect l="14406" t="0" r="25220" b="0"/>
          <a:stretch/>
        </p:blipFill>
        <p:spPr>
          <a:xfrm>
            <a:off x="6581880" y="0"/>
            <a:ext cx="336384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rcRect l="1803" t="0" r="11059" b="0"/>
          <a:stretch/>
        </p:blipFill>
        <p:spPr>
          <a:xfrm>
            <a:off x="3160800" y="2014560"/>
            <a:ext cx="342720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7577" t="0" r="1391" b="0"/>
          <a:stretch/>
        </p:blipFill>
        <p:spPr>
          <a:xfrm>
            <a:off x="779400" y="11160"/>
            <a:ext cx="830124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2079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69720" y="-4680"/>
            <a:ext cx="920304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30T22:08:16Z</dcterms:created>
  <dc:creator>Nadine</dc:creator>
  <dc:description/>
  <dc:language>en-US</dc:language>
  <cp:lastModifiedBy>Nadine</cp:lastModifiedBy>
  <dcterms:modified xsi:type="dcterms:W3CDTF">2008-07-09T14:33:04Z</dcterms:modified>
  <cp:revision>7</cp:revision>
  <dc:subject/>
  <dc:title>Folie 1</dc:title>
</cp:coreProperties>
</file>