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F72-F1F2-426C-A049-33FA1C6C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6CC-EE25-47FA-8909-BC25766B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8A7-D369-4AF6-983C-0365CEFE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B76-5280-4992-816C-2F57CBD1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8CF-9717-4912-ABF9-1619C69E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323-BEB1-4646-8ADD-C6C2895B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8C3-FB67-49D8-B01A-461E56F6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56A-4B63-45E4-B9C7-E26B68D6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A00-BE22-4A30-A211-AD8D552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F47-9574-4791-8CBC-4E9487D4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2EE-42B2-472D-9DBF-364FAF47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103-1C95-4E2E-BA23-3B61C09A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04C5-05DC-4230-B9C4-FDCF81475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906120" cy="69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938160" y="169920"/>
            <a:ext cx="77580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90612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1240" y="-27000"/>
            <a:ext cx="850284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2799" t="30476" r="39944" b="25713"/>
          <a:stretch/>
        </p:blipFill>
        <p:spPr>
          <a:xfrm>
            <a:off x="1440" y="3332160"/>
            <a:ext cx="317052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4406" t="0" r="25220" b="0"/>
          <a:stretch/>
        </p:blipFill>
        <p:spPr>
          <a:xfrm>
            <a:off x="6581880" y="0"/>
            <a:ext cx="33638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803" t="0" r="11059" b="0"/>
          <a:stretch/>
        </p:blipFill>
        <p:spPr>
          <a:xfrm>
            <a:off x="3160800" y="2014560"/>
            <a:ext cx="34272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577" t="0" r="1391" b="0"/>
          <a:stretch/>
        </p:blipFill>
        <p:spPr>
          <a:xfrm>
            <a:off x="779400" y="11160"/>
            <a:ext cx="83012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2079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9720" y="-4680"/>
            <a:ext cx="920304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22:08:16Z</dcterms:created>
  <dc:creator>Nadine</dc:creator>
  <dc:description/>
  <dc:language>en-US</dc:language>
  <cp:lastModifiedBy>Nadine</cp:lastModifiedBy>
  <dcterms:modified xsi:type="dcterms:W3CDTF">2008-07-09T14:33:04Z</dcterms:modified>
  <cp:revision>7</cp:revision>
  <dc:subject/>
  <dc:title>Folie 1</dc:title>
</cp:coreProperties>
</file>