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151-9FF0-440F-80D8-984F8247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F6A-1652-4CFE-B7FC-04FCDD6B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ED0-5057-4969-8156-93F112A8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F40-991F-4C90-B9FB-12E3C263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C72-BF8D-44E6-8F36-E8E3EFB5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F77-2138-4B64-9B51-2287713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61B-0E6A-457D-99F6-114AD94A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551-BC6F-47FB-9BA1-75D3C72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98B-9F09-4BA2-9B7D-6698033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960-6077-4893-9D63-C54016AA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777-8C8A-4301-821C-8880295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8DB-4097-4F33-B461-29435BE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C0C5-1062-40D7-9512-39943FC8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90612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938160" y="169920"/>
            <a:ext cx="775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90612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1240" y="-27000"/>
            <a:ext cx="850284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2799" t="30476" r="39944" b="25713"/>
          <a:stretch/>
        </p:blipFill>
        <p:spPr>
          <a:xfrm>
            <a:off x="1440" y="3332160"/>
            <a:ext cx="317052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4406" t="0" r="25220" b="0"/>
          <a:stretch/>
        </p:blipFill>
        <p:spPr>
          <a:xfrm>
            <a:off x="6581880" y="0"/>
            <a:ext cx="336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3" t="0" r="11059" b="0"/>
          <a:stretch/>
        </p:blipFill>
        <p:spPr>
          <a:xfrm>
            <a:off x="3160800" y="2014560"/>
            <a:ext cx="34272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577" t="0" r="1391" b="0"/>
          <a:stretch/>
        </p:blipFill>
        <p:spPr>
          <a:xfrm>
            <a:off x="779400" y="11160"/>
            <a:ext cx="83012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2079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9720" y="-4680"/>
            <a:ext cx="920304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2:08:16Z</dcterms:created>
  <dc:creator>Nadine</dc:creator>
  <dc:description/>
  <dc:language>en-US</dc:language>
  <cp:lastModifiedBy>Nadine</cp:lastModifiedBy>
  <dcterms:modified xsi:type="dcterms:W3CDTF">2008-07-09T14:33:04Z</dcterms:modified>
  <cp:revision>7</cp:revision>
  <dc:subject/>
  <dc:title>Folie 1</dc:title>
</cp:coreProperties>
</file>