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995-D17F-434C-A614-58A9E423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52E-71EE-4694-A653-305A461D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AEA-FE9D-4458-AF1F-C096AB68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9E0-C20D-4647-9067-87BDFA9F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0AC-E92B-4535-827F-E0C9B6F1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2F9-6763-4F3A-975E-0F7B72DE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7C2-7E8D-4D4F-B263-DD5157F8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242-06BE-4AD9-89D5-CB8A53D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19C-15FA-4021-AA35-2BDA4C7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F6F-28F5-45FB-AC70-1043E46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79E-37E3-4CC2-9C76-29C2160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03-2EE0-4495-805F-0C08504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A80-1EB1-4E64-8618-ED562A2B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906120" cy="69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938160" y="169920"/>
            <a:ext cx="775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90612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1240" y="-27000"/>
            <a:ext cx="850284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32799" t="30476" r="39944" b="25713"/>
          <a:stretch/>
        </p:blipFill>
        <p:spPr>
          <a:xfrm>
            <a:off x="1440" y="3332160"/>
            <a:ext cx="317052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4406" t="0" r="25220" b="0"/>
          <a:stretch/>
        </p:blipFill>
        <p:spPr>
          <a:xfrm>
            <a:off x="6581880" y="0"/>
            <a:ext cx="3363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803" t="0" r="11059" b="0"/>
          <a:stretch/>
        </p:blipFill>
        <p:spPr>
          <a:xfrm>
            <a:off x="3160800" y="2014560"/>
            <a:ext cx="34272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577" t="0" r="1391" b="0"/>
          <a:stretch/>
        </p:blipFill>
        <p:spPr>
          <a:xfrm>
            <a:off x="779400" y="11160"/>
            <a:ext cx="830124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2079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9720" y="-4680"/>
            <a:ext cx="920304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2:08:16Z</dcterms:created>
  <dc:creator>Nadine</dc:creator>
  <dc:description/>
  <dc:language>en-US</dc:language>
  <cp:lastModifiedBy>Nadine</cp:lastModifiedBy>
  <dcterms:modified xsi:type="dcterms:W3CDTF">2008-07-09T14:33:04Z</dcterms:modified>
  <cp:revision>7</cp:revision>
  <dc:subject/>
  <dc:title>Folie 1</dc:title>
</cp:coreProperties>
</file>